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07D2-B7DD-48F5-8A3D-423E694D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C617-472B-4807-B58B-F9C6AC88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 - Cells of the same type joined together for a common 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61D2-D0BD-43A7-A54F-66113D17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connective tissue (CT prop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olar: support; collagen and elastin fibers, thin and glistening, wraps and cushions organs, ner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ipose (fat): signet ring shaped cells; stores fat as reserve food or energy source, insulates body, acts as pad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ar: soft internal skeleton i.e. lymph nodes, spl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ous (dense regular CT): tensile strength when force is in one direction i.e. tendons, ligaments, fasciae, aponeur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ous (dense irregular CT): tensile strength when force is in many directions i.e. dermis of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D2E-C011-4578-813E-933F907F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connectiv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e: tough, elastic material found between bones of spine and at end of long bones where it acts as a shock absorber; also found in nose, ears, larynx; no nerves poor blood supply - heals poo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aline: embryonic skeleton, ends of long bones, costal cartilage of ribs, nose, trachea, laryn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stic: external ear (pinna), epiglott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ocartilage: intervertebral discs, pubic symphysis, discs of knee j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seus (Bone): similar to cartilage but has calcium salts, nerves, blood vessels; body structure, calcium sto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EA1-2614-4025-8BEA-85BF0746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special cells called neurons and neuroglia (supporting cel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s impulses throughout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s to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up brain, spinal cord, and ner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1AD0-10DD-4ADE-AA1D-C6E94847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cellular, well vascular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movement by contraction of muscle fibers (cel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: attaches to bones to provide movement; striated, volun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iac: causes heart to beat; striated, involun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: in walls of hollow organs i.e. digestive tract, blood vessels; No striations, involu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732-324F-489A-A371-C0B5710A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T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-99% water with various substances dissolved in it (tissue flu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hydration: insufficient amount of tissue flu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ema: excess amount of tissue fluid - swe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: unassisted diffusion of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solutions with concentrations of non-penetrating solutes equal to those in the cell i.e. 0.9% saline or 5% 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solutions with high concentrations of non-penetrating solutes = crenation of cells due to loss of water from the cell (sometimes given in an IV to pull excess fluid from edematous patient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solutions with lower concentrations of non-penetrating solutes = lysis due to continued rush of water into cell i.e. distilled water (used carefully to rehydrate extremely dehydrated patients; also in drinks such as colas, tea, and sports dr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02B-C6C1-4EDC-ABE3-9B93747D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: lines body cavities, “wet” membrane; absorption and secre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ous: lines closed body cavities and secretes serous fluid to protect from friction i.e. pleura, peritoneum, pericar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vial: tough, fibrous tissue that lines the cavities of freely movable j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fibrous: tough, opaque for protection i.e. dura mater, periosteum, scl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aneous: “dry” membrane;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E9EB-C374-40AC-8DBA-F0238661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thelial: covers surface of body and lining of intestinal, respiratory, urinary tracts, and other body cavities; forms g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supporting “basement membrane” for p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thin sheets, not very stro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 blood vessels but depends on capillaries in underlying connectiv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i.e.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.e. digestive tract lining and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.e.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i.e.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ion i.e. glands,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reception i.e.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C52-09BE-424A-A08A-846D6982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mous: “scale-like”, single layer, flat; 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al: square, fat; secre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ar: tall, narrow; absorption, secretion; goblet = mucus; ci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udostratified: single layer of differing heights; secretion; goblet cells; ci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ified: multiple cell layers; p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ular: make and secrete a particular pro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: no ducts; 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: ducts; mucous, sweat, oil, salivary, liver, panc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D5C-2354-4D18-B4A5-170289B2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framework of organs and other body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eparated cells and abundant intercellular 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in matrix: collagen, elastic, ret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3D4-5BB7-46C7-8B75-9E67BDA8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CDD-941A-4B62-8C07-50FD092E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E0A-06BE-41E6-8F1F-870DA0E1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9C1-587E-4827-B458-B839966C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1332-465C-4070-9123-8D0FCE05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1F29-23DB-42C3-BB18-5432D484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5A6-4A90-4D55-9B87-636AA314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FEA2-9597-40DE-991B-E8FBD701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A36-464A-4885-8935-5622E98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B733-31BF-4E3E-A619-2C7BFF75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384-E2B0-4C77-AF92-8E7F1DCB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6B4-3C48-4422-B368-7E67B862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EB1D-8826-462A-AE1D-7D23D5D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56D4-D07D-44E6-A143-9AC1C7D7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99D-9C2D-4177-B59C-018FBC03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C64-B1A8-4413-86AE-E4C9E159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6658-C19D-4868-8DA6-42EA825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0F9-D028-4F5D-92A7-1C43996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B9C-8C8E-41F7-9672-279F5F74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F8A-C4A4-49E5-BBDE-48F3DE6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BCF-2B95-40D4-959B-C5F9A7E1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1BD-B4B0-400B-8F9D-C8817AD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D16-286A-412B-A398-D75E4417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B5B-B5C3-461C-BA04-5822466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438120" indent="-16848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2" marL="674280" indent="-134640">
              <a:spcBef>
                <a:spcPts val="1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943920" indent="-134640">
              <a:spcBef>
                <a:spcPts val="1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4" marL="1213560" indent="-134640">
              <a:spcBef>
                <a:spcPts val="1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DED8-4A30-40B3-807B-612A3ECA4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438120" indent="-16848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2" marL="674280" indent="-134640">
              <a:spcBef>
                <a:spcPts val="1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943920" indent="-134640">
              <a:spcBef>
                <a:spcPts val="1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4" marL="1213560" indent="-134640">
              <a:spcBef>
                <a:spcPts val="1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B7C3-7510-4B5F-9CF2-6B1F15BB2FD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Tahoma"/>
              </a:rPr>
              <a:t>Tissues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oft Connective Tissu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391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reola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dipo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ticula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ibr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nse Reg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nse Irreg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Adipose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5" descr="adipose tissue"/>
          <p:cNvPicPr/>
          <p:nvPr/>
        </p:nvPicPr>
        <p:blipFill>
          <a:blip r:embed="rId1"/>
          <a:srcRect l="0" t="0" r="22985" b="0"/>
          <a:stretch/>
        </p:blipFill>
        <p:spPr>
          <a:xfrm>
            <a:off x="1295280" y="1887480"/>
            <a:ext cx="54104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ticular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areolar connective tissue"/>
          <p:cNvPicPr/>
          <p:nvPr/>
        </p:nvPicPr>
        <p:blipFill>
          <a:blip r:embed="rId1"/>
          <a:srcRect l="0" t="28892" r="0" b="0"/>
          <a:stretch/>
        </p:blipFill>
        <p:spPr>
          <a:xfrm>
            <a:off x="1295280" y="1905120"/>
            <a:ext cx="571500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Dense Regular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5" descr="dense regular connective"/>
          <p:cNvPicPr/>
          <p:nvPr/>
        </p:nvPicPr>
        <p:blipFill>
          <a:blip r:embed="rId1"/>
          <a:srcRect l="0" t="66098" r="0" b="0"/>
          <a:stretch/>
        </p:blipFill>
        <p:spPr>
          <a:xfrm>
            <a:off x="76320" y="2590920"/>
            <a:ext cx="8915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Dense Irregular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dense irregular connective tissue"/>
          <p:cNvPicPr/>
          <p:nvPr/>
        </p:nvPicPr>
        <p:blipFill>
          <a:blip r:embed="rId1"/>
          <a:srcRect l="0" t="0" r="10093" b="20488"/>
          <a:stretch/>
        </p:blipFill>
        <p:spPr>
          <a:xfrm>
            <a:off x="1219320" y="182880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rd Connective Tissu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yali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brocartil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Osse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artilag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4" descr="cartilage"/>
          <p:cNvPicPr/>
          <p:nvPr/>
        </p:nvPicPr>
        <p:blipFill>
          <a:blip r:embed="rId1"/>
          <a:stretch/>
        </p:blipFill>
        <p:spPr>
          <a:xfrm>
            <a:off x="1219320" y="18669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Osseous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4" descr="compact bone"/>
          <p:cNvPicPr/>
          <p:nvPr/>
        </p:nvPicPr>
        <p:blipFill>
          <a:blip r:embed="rId1"/>
          <a:srcRect l="1853" t="1852" r="1853" b="17901"/>
          <a:stretch/>
        </p:blipFill>
        <p:spPr>
          <a:xfrm>
            <a:off x="1143000" y="182880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rvous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ypes of Cell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catio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uscle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rdia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moo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elet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haracteristic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60-99% wat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Dehydra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Osmosi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nicit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ardiac Muscl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Picture 5" descr="cardiac muscle"/>
          <p:cNvPicPr/>
          <p:nvPr/>
        </p:nvPicPr>
        <p:blipFill>
          <a:blip r:embed="rId1"/>
          <a:stretch/>
        </p:blipFill>
        <p:spPr>
          <a:xfrm>
            <a:off x="1295280" y="1870200"/>
            <a:ext cx="71629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mooth Muscl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Picture 6" descr="smooth muscle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keletal Muscl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4" descr="skeletal muscle"/>
          <p:cNvPicPr/>
          <p:nvPr/>
        </p:nvPicPr>
        <p:blipFill>
          <a:blip r:embed="rId1"/>
          <a:stretch/>
        </p:blipFill>
        <p:spPr>
          <a:xfrm>
            <a:off x="1295280" y="1828800"/>
            <a:ext cx="73915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embran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mbination tissues of ET and C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embrane Typ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uc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r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ynovia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Dense fibr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utane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Organ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Groups of tissues with a similar func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Integumentary 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k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ody Temp Contro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nsor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xcre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keletal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vemen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Picture 113"/>
          <p:cNvPicPr/>
          <p:nvPr/>
        </p:nvPicPr>
        <p:blipFill>
          <a:blip r:embed="rId1"/>
          <a:stretch/>
        </p:blipFill>
        <p:spPr>
          <a:xfrm>
            <a:off x="4267080" y="2179800"/>
            <a:ext cx="48769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uscular </a:t>
            </a: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vemen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Picture 082"/>
          <p:cNvPicPr/>
          <p:nvPr/>
        </p:nvPicPr>
        <p:blipFill>
          <a:blip r:embed="rId1"/>
          <a:stretch/>
        </p:blipFill>
        <p:spPr>
          <a:xfrm>
            <a:off x="5765760" y="241200"/>
            <a:ext cx="314964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rvous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nsor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Picture 084"/>
          <p:cNvPicPr/>
          <p:nvPr/>
        </p:nvPicPr>
        <p:blipFill>
          <a:blip r:embed="rId1"/>
          <a:stretch/>
        </p:blipFill>
        <p:spPr>
          <a:xfrm>
            <a:off x="4038480" y="1731960"/>
            <a:ext cx="5105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Types of Tissu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pitheli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nnectiv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ervou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uscl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Endocrine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ardiovascular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Picture 036"/>
          <p:cNvPicPr/>
          <p:nvPr/>
        </p:nvPicPr>
        <p:blipFill>
          <a:blip r:embed="rId1"/>
          <a:srcRect l="5723" t="3372" r="5550" b="0"/>
          <a:stretch/>
        </p:blipFill>
        <p:spPr>
          <a:xfrm>
            <a:off x="6291360" y="0"/>
            <a:ext cx="247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1286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Lymphatic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Immune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4419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Picture 065"/>
          <p:cNvPicPr/>
          <p:nvPr/>
        </p:nvPicPr>
        <p:blipFill>
          <a:blip r:embed="rId1"/>
          <a:srcRect l="5636" t="4447" r="5592" b="0"/>
          <a:stretch/>
        </p:blipFill>
        <p:spPr>
          <a:xfrm>
            <a:off x="5257800" y="0"/>
            <a:ext cx="33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spiratory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Gas Exchang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Picture 101"/>
          <p:cNvPicPr/>
          <p:nvPr/>
        </p:nvPicPr>
        <p:blipFill>
          <a:blip r:embed="rId1"/>
          <a:stretch/>
        </p:blipFill>
        <p:spPr>
          <a:xfrm>
            <a:off x="4191120" y="1816200"/>
            <a:ext cx="48006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igestive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cess food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utrient absorp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5" descr="Picture 047"/>
          <p:cNvPicPr/>
          <p:nvPr/>
        </p:nvPicPr>
        <p:blipFill>
          <a:blip r:embed="rId1"/>
          <a:srcRect l="13788" t="4496" r="5558" b="0"/>
          <a:stretch/>
        </p:blipFill>
        <p:spPr>
          <a:xfrm>
            <a:off x="5410080" y="0"/>
            <a:ext cx="37339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Urinary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320" y="201780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aintains water and electrolyte balanc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Picture 055"/>
          <p:cNvPicPr/>
          <p:nvPr/>
        </p:nvPicPr>
        <p:blipFill>
          <a:blip r:embed="rId1"/>
          <a:srcRect l="1640" t="4494" r="11314" b="0"/>
          <a:stretch/>
        </p:blipFill>
        <p:spPr>
          <a:xfrm>
            <a:off x="3684600" y="762120"/>
            <a:ext cx="5459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productive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duction of offspring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Epithelial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Epithelial Tissue Cell Typ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quamo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boid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umn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seudostratifi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ifi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land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quamous Epitheliu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5" descr="simple squamous epithelium"/>
          <p:cNvPicPr/>
          <p:nvPr/>
        </p:nvPicPr>
        <p:blipFill>
          <a:blip r:embed="rId1"/>
          <a:srcRect l="29350" t="22648" r="20654" b="20295"/>
          <a:stretch/>
        </p:blipFill>
        <p:spPr>
          <a:xfrm>
            <a:off x="1447920" y="1905120"/>
            <a:ext cx="5608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uboidal Epitheliu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simple cuboidal epithelium"/>
          <p:cNvPicPr/>
          <p:nvPr/>
        </p:nvPicPr>
        <p:blipFill>
          <a:blip r:embed="rId1"/>
          <a:srcRect l="53276" t="0" r="11428" b="69538"/>
          <a:stretch/>
        </p:blipFill>
        <p:spPr>
          <a:xfrm>
            <a:off x="1219320" y="1981080"/>
            <a:ext cx="67053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olumnar Epitheliu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5" descr="simple columnar epithelium"/>
          <p:cNvPicPr/>
          <p:nvPr/>
        </p:nvPicPr>
        <p:blipFill>
          <a:blip r:embed="rId1"/>
          <a:srcRect l="48268" t="17185" r="0" b="28912"/>
          <a:stretch/>
        </p:blipFill>
        <p:spPr>
          <a:xfrm>
            <a:off x="1371600" y="2014560"/>
            <a:ext cx="55627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onnective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atrix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6:42Z</dcterms:created>
  <dc:creator>Administrator</dc:creator>
  <dc:description/>
  <dc:language>en-US</dc:language>
  <cp:lastModifiedBy>jh</cp:lastModifiedBy>
  <dcterms:modified xsi:type="dcterms:W3CDTF">2010-09-25T19:20:11Z</dcterms:modified>
  <cp:revision>3</cp:revision>
  <dc:subject/>
  <dc:title>Tissues</dc:title>
</cp:coreProperties>
</file>